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11.jpeg" ContentType="image/jpe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5.jpeg" ContentType="image/jpeg"/>
  <Override PartName="/ppt/media/image14.jpeg" ContentType="image/jpeg"/>
  <Override PartName="/ppt/media/image8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C52F-B5A4-4EAA-A43C-C9F4AC5385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CE6F-318E-410F-AAB2-7F2680DC49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is to motivate circular motion involves accele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6D63-E6DD-4281-A35D-9A5257D154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093D-031A-4C5D-862D-F781870CAE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6150-70B5-456C-BD80-A41AE843E6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D6AF-7993-4F30-A516-C917EC53A4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466B-20DF-4F62-8043-03AE31A07D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D9F6-46A0-4723-B7AB-6547B3A2C1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is to motivate circular motion involves accele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E207-42CB-4971-82D3-296890BCCD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is to motivate circular motion involves accele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F0CF3-EB06-4189-8DF8-24407DC5F3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is to motivate circular motion involves accele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E73C-DB0F-4D8F-B921-E27192F3AD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F04E-C52F-4CE8-BE42-6C334682CD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2EFD-0B16-429A-8A71-7C86FBC016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54EC3-0E52-44FB-BA69-5070BCEEFA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0CAE-FE69-4E94-AE08-DF34D054C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E039-12BF-452D-AC69-1BB534BE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E245B6-3053-4439-A0F3-1DFF9B05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57D4C-DFD2-4639-B103-BA6C8F5B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9482F-885D-48DE-9CE7-6180C2AE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8D26E8-3C82-4338-AC05-9D7BA910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CCEE39-5621-4ED8-BCF9-E3D7DF98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583E4-BF1B-4347-BD5E-52E197B3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9054CD-32C8-4E30-B415-9B09FB25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1AA3F7-EB0D-422C-B216-F535AAF02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B06695-54D9-49FC-BBCE-30D9BB234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5C7CD1-01E7-4E98-B397-CD6FC7BD7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0DEF-7A3C-4423-9E12-F7C29073D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ECBD4D-D35E-488D-A118-FF24A872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2D709C-1ADA-414D-BD33-8F39B5EA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3A8B02-DED6-4926-9BDE-7E79819C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CDE3EB-B3C8-4A39-95CA-92922FA3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2569E8-AB0F-4152-AE53-087562CB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7D53F8-2E11-4FA3-A52E-9D0333CA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94082F-FCA0-41BF-972D-25B2BADF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FC2948-E480-4ECD-B964-15499139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D72CF7-005A-4145-8907-88FFE03E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AAEB40-0FB0-4B87-BDAC-8B8ADD785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6A0F-C0A7-4FA6-9904-E4C6D96B6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6276EE-3DAF-4292-854A-10D9E6E02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C2E8-725D-4F19-B646-9E30249BE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16D6-6EF3-44D8-9711-BDE1F496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BFC99-1C5C-4EF7-9974-DDB482D0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797A8-B851-41B4-BC37-7C9905AF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6B40-96E3-4AED-B79B-084D73A3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20854-9DE4-4AB7-8512-C04298C4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D8EC-9364-4269-8F0A-51D57B27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38A0-60CA-4DF9-AF02-40DC670A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20DC-778E-4DCB-A6D9-A661932E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0AB1-EBB9-4234-BE9F-EB913354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1B70-BF17-43CD-8B0B-5379E909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2A44-BF5C-42DE-B9C8-17502684D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32E8-E9FC-4856-8221-C18CE59A6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3C892-BBBC-4CBB-A41E-775B8B485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B9F68-8C3E-45A2-8893-A597A5C6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AEA61-1B46-48E3-B662-C40BE513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3DECF-5B4E-4E45-8ED7-AABB2B0D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5C958-89EE-4340-8CBE-E6638971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83F7-6158-4553-B72A-75B0E153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60DF1-30A5-4847-8700-525EDF1A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0E565-FFF1-489C-869D-024742C1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AD6AD-C1D1-491E-9D29-3DA893C4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B164E-6874-498A-94B5-0CB0C826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D940F-4171-4E97-BE02-3C8A98E7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AE61D-2C7F-4950-A533-4E88B1600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B0C00-3A6A-47C2-AADA-3D253FCFB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3B7A4-9B00-4161-BB99-F2F8380A4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BA266-2F34-4D8A-9330-BD174E44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15E27-9ACE-444A-A6A9-4E42EE4C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5BB5-67AA-4C5F-9120-C814BBB5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B3033-16CC-4FFF-A774-74816427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93E8B-EB4D-429B-9E83-0ABE86A6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65A04-EE22-4F42-A749-AB6CF033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82530-FC79-43D1-B64A-93FAB47C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8A0F5-CF4B-43C6-9A7A-65477D5B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F6D80-7D16-4B4F-BD59-FD3E6C3A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AB355-1C74-4890-8DEB-37E380D4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3E78F-FA68-4C32-A846-48F15AF12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BD585-70CB-49D5-97E3-29A3F268F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5F6E0-FD8E-4790-84DB-0F4B80967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967E-4271-43B4-9D4F-D67BE7CC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60E11-6898-45DC-A6AD-79A2DF40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34A82-0F3B-41CF-A7E2-525B6DCA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321AA-51AC-459F-ABC6-0F0E718C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1677A-0D4E-4B40-AD57-1E0ADEEC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5C48A-D5A4-4B85-899D-F8E3F10D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97EB8-3B3F-4F22-A58A-A951E4DF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B1DFE-B195-44AC-A2A8-46AFDCE6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7E020-5D08-4022-94F4-FEE2CBAC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5D49E-6C78-4039-BB85-8C11C037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52A4B-AFC1-4D93-8468-ADB0C06A3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C23C-09EB-4537-87D5-943ADD0C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0CEF6-76E3-4B73-8720-056E365FC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068BD-2BAB-45D3-BBD5-C2D3ED90C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FE0A1-72CE-4386-BEEC-50F6721C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B2040-28A6-4B84-832B-9F001EDB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30456-A07D-4C8B-8486-3AEC7435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42206-B2E6-4E3B-963E-A6CFCC97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BFA3F-8A3E-4DE0-99C3-FDFACDEC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3D679-09F7-4510-A6DE-D3AEB036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DD227-7839-4835-8FC0-22D6042F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AAB2A-8F16-41A7-8535-BF374C1B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D1CE-92F5-467C-8E6E-0B2D1C86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FB560-EB4B-4157-A658-5D76EBC7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68E1B-6597-4FFC-9239-4E84248F0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F05C9-7592-409C-9057-84DC0DDEA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8D2F9-13F1-48D8-8A1F-CC608DD6E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6471E-7BF8-4355-B379-33BB061E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DA68D-3D83-47B0-8E09-CDDD9C20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7EE9C-9649-4034-AC2C-57ED63C1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20D1C-A7CE-4B79-98F9-60909463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B0CA9-38B3-47E5-9609-980D6462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1D23F-16C0-416B-91DF-7372D88B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4FAB-84FB-4DA6-A171-1DFCE7F7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2E9BA-F29A-48F2-A64C-0898E0FE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06481-64EF-40E0-97FC-C7265AD7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F9EC3-18FB-4AB3-9D52-BAB22ECE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FB077-258D-439D-A601-F506A68B9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57643-5840-4FC2-BC4C-AF0476468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63C10-2717-4C1D-8F28-0DD08AC62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3B8F9-4A67-42AC-86C5-4420A595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3F884-9794-4F5D-869C-61BE54D6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12109-FA2C-442F-A20C-C271CCCF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96A2A-3FAF-4E00-B45B-9B46F5E8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845C-C2B6-4C32-B3A3-E9DE667C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F0385-E9A0-46CA-AEB1-507996E5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DFCEF-E7D0-45F1-98C1-946E802E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4A3D3-5ECA-497A-B1F6-FA392C79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9CDF4-96A0-45D9-A4A7-F57EC338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E8186-39BF-4B70-8AAB-15DB8062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0C6B2-13CE-4072-AE95-C028F57D5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73F96-7406-4EB3-B3B5-AA3A54D68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EAEE57-91BB-4086-9298-97B1B854D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718133-D383-46BE-B284-290D2E49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643C06-B4E7-47EA-A0AA-510BCDD0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71CB-8205-4AF7-9CFB-7E7DE7E16C3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19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2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42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4380-6962-458A-B855-2702AF7E628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154c8e"/>
              </a:gs>
              <a:gs pos="50000">
                <a:srgbClr val="5e91da"/>
              </a:gs>
              <a:gs pos="100000">
                <a:srgbClr val="154c8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a6b9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0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11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D2F9-1D82-4E71-831C-F6E63FA3C5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F4B5-FCB4-4C33-868D-18FFB8ADE0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5A46-E537-496E-A22F-08FC5FC2C4E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C8B9-C994-4A01-9AA1-3746F06090B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3844-74E5-4787-B90C-64D254913DC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7B3E-F9BF-4D1C-B41C-18AE0A36D6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7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8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1321-EEAF-4F27-926C-1BD59FA892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7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7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52C4-F12E-4740-838E-E4844B94841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97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hysicsclassroom.com/" TargetMode="External"/><Relationship Id="rId2" Type="http://schemas.openxmlformats.org/officeDocument/2006/relationships/hyperlink" Target="http://www.physicsclassroom.com/" TargetMode="External"/><Relationship Id="rId3" Type="http://schemas.openxmlformats.org/officeDocument/2006/relationships/hyperlink" Target="http://hyperphysics.phy-astr.gsu.edu/hbase/orbv.html" TargetMode="External"/><Relationship Id="rId4" Type="http://schemas.openxmlformats.org/officeDocument/2006/relationships/hyperlink" Target="http://hyperphysics.phy-astr.gsu.edu/hbase/orbv.html#co" TargetMode="External"/><Relationship Id="rId5" Type="http://schemas.openxmlformats.org/officeDocument/2006/relationships/hyperlink" Target="http://hyperphysics.phy-astr.gsu.edu/hbase/hframe.html" TargetMode="Externa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nimations.physics.unsw.edu.au/mechanics/chapter3_circularmotion.html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Physics%20Presentation.pptx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97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Rectangle 11" descr=""/>
          <p:cNvPicPr/>
          <p:nvPr/>
        </p:nvPicPr>
        <p:blipFill>
          <a:blip r:embed="rId1"/>
          <a:stretch/>
        </p:blipFill>
        <p:spPr>
          <a:xfrm>
            <a:off x="841320" y="-103320"/>
            <a:ext cx="7620120" cy="567540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13"/>
          <p:cNvSpPr/>
          <p:nvPr/>
        </p:nvSpPr>
        <p:spPr>
          <a:xfrm>
            <a:off x="8723160" y="6583320"/>
            <a:ext cx="4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Rectangle 2" descr=""/>
          <p:cNvPicPr/>
          <p:nvPr/>
        </p:nvPicPr>
        <p:blipFill>
          <a:blip r:embed="rId1"/>
          <a:stretch/>
        </p:blipFill>
        <p:spPr>
          <a:xfrm>
            <a:off x="195120" y="152280"/>
            <a:ext cx="8498160" cy="12747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n most cases, the string force not only has to provide the force required for circular motion, but also the force required to balance the gravitational force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mportant consequences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You can never swing an object with the string aligned with the horizontal plane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When the speed increases, the acceleration increases up to the point that the force required for circular motion exceeds the maximum force that can be provided by the string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94" name="Picture 4" descr=""/>
          <p:cNvPicPr/>
          <p:nvPr/>
        </p:nvPicPr>
        <p:blipFill>
          <a:blip r:embed="rId2"/>
          <a:stretch/>
        </p:blipFill>
        <p:spPr>
          <a:xfrm>
            <a:off x="5270400" y="1600200"/>
            <a:ext cx="2797200" cy="218124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5" descr=""/>
          <p:cNvPicPr/>
          <p:nvPr/>
        </p:nvPicPr>
        <p:blipFill>
          <a:blip r:embed="rId3"/>
          <a:stretch/>
        </p:blipFill>
        <p:spPr>
          <a:xfrm>
            <a:off x="5268960" y="3944880"/>
            <a:ext cx="279720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Rectangle 2" descr=""/>
          <p:cNvPicPr/>
          <p:nvPr/>
        </p:nvPicPr>
        <p:blipFill>
          <a:blip r:embed="rId1"/>
          <a:stretch/>
        </p:blipFill>
        <p:spPr>
          <a:xfrm>
            <a:off x="225360" y="66600"/>
            <a:ext cx="8742600" cy="136044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/>
          </p:nvPr>
        </p:nvSpPr>
        <p:spPr>
          <a:xfrm>
            <a:off x="151920" y="15238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When you drive your car around a corner you carry out circular motion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In order to be able to carry out this type of motion, there must be a force present that provides the required acceleration towards the center of the circle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This required force is provided by the friction force between the tires and the road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But remember ….. The friction force has a maximum value, and there is a maximum speed with which you can make the turn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98" name="Picture 4" descr=""/>
          <p:cNvPicPr/>
          <p:nvPr/>
        </p:nvPicPr>
        <p:blipFill>
          <a:blip r:embed="rId2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5"/>
          <p:cNvSpPr/>
          <p:nvPr/>
        </p:nvSpPr>
        <p:spPr>
          <a:xfrm>
            <a:off x="5172840" y="1828800"/>
            <a:ext cx="3445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Required force = Mv</a:t>
            </a:r>
            <a:r>
              <a:rPr b="0" lang="en-US" sz="2000" spc="-1" strike="noStrike" baseline="30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/r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If v increases, the friction force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ust increase and/or the radiu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ust increas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Arc 2"/>
          <p:cNvSpPr/>
          <p:nvPr/>
        </p:nvSpPr>
        <p:spPr>
          <a:xfrm flipV="1">
            <a:off x="5116680" y="2227680"/>
            <a:ext cx="3681360" cy="1351080"/>
          </a:xfrm>
          <a:custGeom>
            <a:avLst/>
            <a:gdLst>
              <a:gd name="textAreaLeft" fmla="*/ 0 w 3681360"/>
              <a:gd name="textAreaRight" fmla="*/ 3681720 w 3681360"/>
              <a:gd name="textAreaTop" fmla="*/ -360 h 1351080"/>
              <a:gd name="textAreaBottom" fmla="*/ 1351080 h 1351080"/>
            </a:gdLst>
            <a:ahLst/>
            <a:rect l="textAreaLeft" t="textAreaTop" r="textAreaRight" b="textAreaBottom"/>
            <a:pathLst>
              <a:path fill="none" w="43200" h="43200">
                <a:moveTo>
                  <a:pt x="35218" y="4834"/>
                </a:moveTo>
                <a:cubicBezTo>
                  <a:pt x="40268" y="8935"/>
                  <a:pt x="43200" y="15094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6482" y="-1"/>
                  <a:pt x="31220" y="1654"/>
                  <a:pt x="35042" y="4692"/>
                </a:cubicBezTo>
              </a:path>
              <a:path stroke="0" w="43200" h="43200">
                <a:moveTo>
                  <a:pt x="35218" y="4834"/>
                </a:moveTo>
                <a:cubicBezTo>
                  <a:pt x="40268" y="8935"/>
                  <a:pt x="43200" y="15094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6482" y="-1"/>
                  <a:pt x="31220" y="1654"/>
                  <a:pt x="35042" y="4692"/>
                </a:cubicBezTo>
                <a:lnTo>
                  <a:pt x="21600" y="21600"/>
                </a:lnTo>
                <a:close/>
              </a:path>
            </a:pathLst>
          </a:custGeom>
          <a:noFill/>
          <a:ln w="12600">
            <a:solidFill>
              <a:srgbClr val="1f497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1" name="Arc 3"/>
          <p:cNvSpPr/>
          <p:nvPr/>
        </p:nvSpPr>
        <p:spPr>
          <a:xfrm flipV="1">
            <a:off x="5097600" y="2212200"/>
            <a:ext cx="2208240" cy="1351080"/>
          </a:xfrm>
          <a:custGeom>
            <a:avLst/>
            <a:gdLst>
              <a:gd name="textAreaLeft" fmla="*/ 0 w 2208240"/>
              <a:gd name="textAreaRight" fmla="*/ 2208600 w 2208240"/>
              <a:gd name="textAreaTop" fmla="*/ -360 h 1351080"/>
              <a:gd name="textAreaBottom" fmla="*/ 1351080 h 1351080"/>
            </a:gdLst>
            <a:ahLst/>
            <a:rect l="textAreaLeft" t="textAreaTop" r="textAreaRight" b="textAreaBottom"/>
            <a:pathLst>
              <a:path fill="none" w="25915" h="43200">
                <a:moveTo>
                  <a:pt x="25247" y="42889"/>
                </a:moveTo>
                <a:cubicBezTo>
                  <a:pt x="24042" y="43096"/>
                  <a:pt x="2282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049" y="-1"/>
                  <a:pt x="24494" y="145"/>
                  <a:pt x="25914" y="435"/>
                </a:cubicBezTo>
              </a:path>
              <a:path stroke="0" w="25915" h="43200">
                <a:moveTo>
                  <a:pt x="25247" y="42889"/>
                </a:moveTo>
                <a:cubicBezTo>
                  <a:pt x="24042" y="43096"/>
                  <a:pt x="2282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049" y="-1"/>
                  <a:pt x="24494" y="145"/>
                  <a:pt x="25914" y="435"/>
                </a:cubicBezTo>
                <a:lnTo>
                  <a:pt x="21600" y="21600"/>
                </a:lnTo>
                <a:close/>
              </a:path>
            </a:pathLst>
          </a:custGeom>
          <a:noFill/>
          <a:ln w="381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590040" y="657360"/>
            <a:ext cx="7944120" cy="17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9000"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ou are driving a car with constant speed around a horizontal circular track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Lucida Sans Unicode"/>
              </a:rPr>
              <a:t>Norma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n a piece of paper, draw a Free Body Diagram (FBD) for the car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ow many forces are acting on the car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A) 1 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) 2 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) 3 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) 4  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) 5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03" name="Rectangle 4" descr=""/>
          <p:cNvPicPr/>
          <p:nvPr/>
        </p:nvPicPr>
        <p:blipFill>
          <a:blip r:embed="rId1"/>
          <a:stretch/>
        </p:blipFill>
        <p:spPr>
          <a:xfrm>
            <a:off x="450720" y="-171360"/>
            <a:ext cx="7712280" cy="804600"/>
          </a:xfrm>
          <a:prstGeom prst="rect">
            <a:avLst/>
          </a:prstGeom>
          <a:ln w="0">
            <a:noFill/>
          </a:ln>
        </p:spPr>
      </p:pic>
      <p:grpSp>
        <p:nvGrpSpPr>
          <p:cNvPr id="604" name="Group 6"/>
          <p:cNvGrpSpPr/>
          <p:nvPr/>
        </p:nvGrpSpPr>
        <p:grpSpPr>
          <a:xfrm>
            <a:off x="4991040" y="2355840"/>
            <a:ext cx="504720" cy="441360"/>
            <a:chOff x="4991040" y="2355840"/>
            <a:chExt cx="504720" cy="441360"/>
          </a:xfrm>
        </p:grpSpPr>
        <p:sp>
          <p:nvSpPr>
            <p:cNvPr id="605" name="Oval 7"/>
            <p:cNvSpPr/>
            <p:nvPr/>
          </p:nvSpPr>
          <p:spPr>
            <a:xfrm>
              <a:off x="5016600" y="2654280"/>
              <a:ext cx="85680" cy="142920"/>
            </a:xfrm>
            <a:prstGeom prst="ellipse">
              <a:avLst/>
            </a:prstGeom>
            <a:solidFill>
              <a:srgbClr val="1f497d"/>
            </a:solidFill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606" name="AutoShape 8"/>
            <p:cNvSpPr/>
            <p:nvPr/>
          </p:nvSpPr>
          <p:spPr>
            <a:xfrm>
              <a:off x="4991040" y="2403360"/>
              <a:ext cx="504720" cy="371520"/>
            </a:xfrm>
            <a:prstGeom prst="cube">
              <a:avLst>
                <a:gd name="adj" fmla="val 61365"/>
              </a:avLst>
            </a:prstGeom>
            <a:solidFill>
              <a:srgbClr val="ff3300"/>
            </a:solidFill>
            <a:ln w="190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607" name="AutoShape 9"/>
            <p:cNvSpPr/>
            <p:nvPr/>
          </p:nvSpPr>
          <p:spPr>
            <a:xfrm>
              <a:off x="5118120" y="2355840"/>
              <a:ext cx="263520" cy="203040"/>
            </a:xfrm>
            <a:prstGeom prst="cube">
              <a:avLst>
                <a:gd name="adj" fmla="val 36365"/>
              </a:avLst>
            </a:prstGeom>
            <a:solidFill>
              <a:srgbClr val="ff3300"/>
            </a:solidFill>
            <a:ln w="190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608" name="Oval 10"/>
            <p:cNvSpPr/>
            <p:nvPr/>
          </p:nvSpPr>
          <p:spPr>
            <a:xfrm>
              <a:off x="5302080" y="2654280"/>
              <a:ext cx="86040" cy="142920"/>
            </a:xfrm>
            <a:prstGeom prst="ellipse">
              <a:avLst/>
            </a:prstGeom>
            <a:solidFill>
              <a:srgbClr val="1f497d"/>
            </a:solidFill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609" name="Oval 11"/>
            <p:cNvSpPr/>
            <p:nvPr/>
          </p:nvSpPr>
          <p:spPr>
            <a:xfrm>
              <a:off x="5410080" y="2543040"/>
              <a:ext cx="85680" cy="142920"/>
            </a:xfrm>
            <a:prstGeom prst="ellipse">
              <a:avLst/>
            </a:prstGeom>
            <a:solidFill>
              <a:srgbClr val="1f497d"/>
            </a:solidFill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610" name="Line 12"/>
          <p:cNvSpPr/>
          <p:nvPr/>
        </p:nvSpPr>
        <p:spPr>
          <a:xfrm>
            <a:off x="5197320" y="3108240"/>
            <a:ext cx="55800" cy="5076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1" name="Text Box 13"/>
          <p:cNvSpPr/>
          <p:nvPr/>
        </p:nvSpPr>
        <p:spPr>
          <a:xfrm>
            <a:off x="8723160" y="6583320"/>
            <a:ext cx="4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2" name="Rectangle 14"/>
          <p:cNvSpPr/>
          <p:nvPr/>
        </p:nvSpPr>
        <p:spPr>
          <a:xfrm>
            <a:off x="2133720" y="4800600"/>
            <a:ext cx="571500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The net force on the car i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A. Zero </a:t>
            </a:r>
            <a:br>
              <a:rPr sz="1800"/>
            </a:b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B. Pointing radially inward  (centripetal!)</a:t>
            </a:r>
            <a:br>
              <a:rPr sz="1800"/>
            </a:b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C. Pointing radially outward</a:t>
            </a:r>
            <a:r>
              <a:rPr b="0" lang="en-US" sz="1800" spc="-1" strike="noStrike">
                <a:solidFill>
                  <a:srgbClr val="003399"/>
                </a:solidFill>
                <a:latin typeface="Lucida Sans Unicode"/>
              </a:rPr>
              <a:t> 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(centrifugal?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3" name="Line 39"/>
          <p:cNvSpPr/>
          <p:nvPr/>
        </p:nvSpPr>
        <p:spPr>
          <a:xfrm>
            <a:off x="5181480" y="28195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4" name="Line 40"/>
          <p:cNvSpPr/>
          <p:nvPr/>
        </p:nvSpPr>
        <p:spPr>
          <a:xfrm>
            <a:off x="5334120" y="2590920"/>
            <a:ext cx="1523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5" name="Text Box 41"/>
          <p:cNvSpPr/>
          <p:nvPr/>
        </p:nvSpPr>
        <p:spPr>
          <a:xfrm>
            <a:off x="4572000" y="4267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Lucida Sans Unicode"/>
              </a:rPr>
              <a:t>Gravit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6" name="Text Box 42"/>
          <p:cNvSpPr/>
          <p:nvPr/>
        </p:nvSpPr>
        <p:spPr>
          <a:xfrm>
            <a:off x="6858000" y="2590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Lucida Sans Unicode"/>
              </a:rPr>
              <a:t>Fricti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617" name="Straight Arrow Connector 19"/>
          <p:cNvCxnSpPr/>
          <p:nvPr/>
        </p:nvCxnSpPr>
        <p:spPr>
          <a:xfrm flipV="1">
            <a:off x="5180400" y="1065960"/>
            <a:ext cx="2520" cy="122004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triangle" w="med"/>
          </a:ln>
        </p:spPr>
      </p:cxn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6000"/>
                            </p:stCondLst>
                            <p:childTnLst>
                              <p:par>
                                <p:cTn id="1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914040" y="1676520"/>
            <a:ext cx="7684920" cy="171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avain sits on the outer rim of a merry-go-round, and Diego sits midway between the center and the rim.  The merry-go-round makes one complete revolution every two second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iego’s angular velocity i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19" name="Rectangle 2" descr=""/>
          <p:cNvPicPr/>
          <p:nvPr/>
        </p:nvPicPr>
        <p:blipFill>
          <a:blip r:embed="rId1"/>
          <a:stretch/>
        </p:blipFill>
        <p:spPr>
          <a:xfrm>
            <a:off x="658800" y="298440"/>
            <a:ext cx="7662960" cy="1158840"/>
          </a:xfrm>
          <a:prstGeom prst="rect">
            <a:avLst/>
          </a:prstGeom>
          <a:ln w="0">
            <a:noFill/>
          </a:ln>
        </p:spPr>
      </p:pic>
      <p:sp>
        <p:nvSpPr>
          <p:cNvPr id="620" name="Rectangle 4"/>
          <p:cNvSpPr/>
          <p:nvPr/>
        </p:nvSpPr>
        <p:spPr>
          <a:xfrm>
            <a:off x="557640" y="3598920"/>
            <a:ext cx="3853440" cy="12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the same as Davian’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twice Davian’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half Davian’s </a:t>
            </a:r>
            <a:r>
              <a:rPr b="0" i="1" lang="en-US" sz="2000" spc="-1" strike="noStrike">
                <a:solidFill>
                  <a:srgbClr val="1f497d"/>
                </a:solidFill>
                <a:latin typeface="Arial"/>
              </a:rPr>
              <a:t>    </a:t>
            </a:r>
            <a:r>
              <a:rPr b="1" i="1" lang="en-US" sz="2000" spc="-1" strike="noStrike" baseline="-25000">
                <a:solidFill>
                  <a:srgbClr val="c0504d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1" name="Oval 5"/>
          <p:cNvSpPr/>
          <p:nvPr/>
        </p:nvSpPr>
        <p:spPr>
          <a:xfrm>
            <a:off x="4780080" y="3946680"/>
            <a:ext cx="3568680" cy="742680"/>
          </a:xfrm>
          <a:prstGeom prst="ellipse">
            <a:avLst/>
          </a:prstGeom>
          <a:solidFill>
            <a:srgbClr val="037c0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2" name="Oval 6"/>
          <p:cNvSpPr/>
          <p:nvPr/>
        </p:nvSpPr>
        <p:spPr>
          <a:xfrm>
            <a:off x="4780080" y="3838680"/>
            <a:ext cx="3568680" cy="742680"/>
          </a:xfrm>
          <a:prstGeom prst="ellipse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6456240" y="4702320"/>
            <a:ext cx="139680" cy="3632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624" name="Group 8"/>
          <p:cNvGrpSpPr/>
          <p:nvPr/>
        </p:nvGrpSpPr>
        <p:grpSpPr>
          <a:xfrm>
            <a:off x="6907320" y="4210200"/>
            <a:ext cx="1294560" cy="485280"/>
            <a:chOff x="6907320" y="4210200"/>
            <a:chExt cx="1294560" cy="485280"/>
          </a:xfrm>
        </p:grpSpPr>
        <p:sp>
          <p:nvSpPr>
            <p:cNvPr id="625" name="Line 9"/>
            <p:cNvSpPr/>
            <p:nvPr/>
          </p:nvSpPr>
          <p:spPr>
            <a:xfrm flipH="1">
              <a:off x="7592400" y="4263840"/>
              <a:ext cx="609480" cy="431640"/>
            </a:xfrm>
            <a:prstGeom prst="line">
              <a:avLst/>
            </a:prstGeom>
            <a:ln w="25560">
              <a:solidFill>
                <a:srgbClr val="fc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626" name="Line 10"/>
            <p:cNvSpPr/>
            <p:nvPr/>
          </p:nvSpPr>
          <p:spPr>
            <a:xfrm flipH="1">
              <a:off x="6907320" y="4210200"/>
              <a:ext cx="304560" cy="215640"/>
            </a:xfrm>
            <a:prstGeom prst="line">
              <a:avLst/>
            </a:prstGeom>
            <a:ln w="25560">
              <a:solidFill>
                <a:srgbClr val="fc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627" name="Oval 11"/>
          <p:cNvSpPr/>
          <p:nvPr/>
        </p:nvSpPr>
        <p:spPr>
          <a:xfrm>
            <a:off x="8145360" y="4184640"/>
            <a:ext cx="139680" cy="95400"/>
          </a:xfrm>
          <a:prstGeom prst="ellipse">
            <a:avLst/>
          </a:prstGeom>
          <a:solidFill>
            <a:srgbClr val="037c0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8" name="Oval 12"/>
          <p:cNvSpPr/>
          <p:nvPr/>
        </p:nvSpPr>
        <p:spPr>
          <a:xfrm>
            <a:off x="7174080" y="4127400"/>
            <a:ext cx="139680" cy="88920"/>
          </a:xfrm>
          <a:prstGeom prst="ellipse">
            <a:avLst/>
          </a:prstGeom>
          <a:solidFill>
            <a:srgbClr val="037c0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9" name="Rectangle 13"/>
          <p:cNvSpPr/>
          <p:nvPr/>
        </p:nvSpPr>
        <p:spPr>
          <a:xfrm>
            <a:off x="6456240" y="3678120"/>
            <a:ext cx="139680" cy="471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0" name="Arc 14"/>
          <p:cNvSpPr/>
          <p:nvPr/>
        </p:nvSpPr>
        <p:spPr>
          <a:xfrm>
            <a:off x="7116840" y="3600360"/>
            <a:ext cx="1627200" cy="546120"/>
          </a:xfrm>
          <a:custGeom>
            <a:avLst/>
            <a:gdLst>
              <a:gd name="textAreaLeft" fmla="*/ 0 w 1627200"/>
              <a:gd name="textAreaRight" fmla="*/ 1627560 w 1627200"/>
              <a:gd name="textAreaTop" fmla="*/ 0 h 546120"/>
              <a:gd name="textAreaBottom" fmla="*/ 546120 h 546120"/>
            </a:gdLst>
            <a:ahLst/>
            <a:rect l="textAreaLeft" t="textAreaTop" r="textAreaRight" b="textAreaBottom"/>
            <a:pathLst>
              <a:path fill="none" w="21621" h="21600">
                <a:moveTo>
                  <a:pt x="0" y="0"/>
                </a:moveTo>
                <a:cubicBezTo>
                  <a:pt x="7" y="0"/>
                  <a:pt x="14" y="-1"/>
                  <a:pt x="21" y="0"/>
                </a:cubicBezTo>
                <a:cubicBezTo>
                  <a:pt x="11950" y="0"/>
                  <a:pt x="21621" y="9670"/>
                  <a:pt x="21621" y="21600"/>
                </a:cubicBezTo>
              </a:path>
              <a:path stroke="0" w="21621" h="21600">
                <a:moveTo>
                  <a:pt x="0" y="0"/>
                </a:moveTo>
                <a:cubicBezTo>
                  <a:pt x="7" y="0"/>
                  <a:pt x="14" y="-1"/>
                  <a:pt x="21" y="0"/>
                </a:cubicBezTo>
                <a:cubicBezTo>
                  <a:pt x="11950" y="0"/>
                  <a:pt x="21621" y="9670"/>
                  <a:pt x="21621" y="21600"/>
                </a:cubicBezTo>
                <a:lnTo>
                  <a:pt x="21" y="21600"/>
                </a:lnTo>
                <a:close/>
              </a:path>
            </a:pathLst>
          </a:custGeom>
          <a:noFill/>
          <a:ln cap="rnd" w="12600">
            <a:solidFill>
              <a:srgbClr val="1f497d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1" name="Line 15"/>
          <p:cNvSpPr/>
          <p:nvPr/>
        </p:nvSpPr>
        <p:spPr>
          <a:xfrm>
            <a:off x="7040520" y="3255840"/>
            <a:ext cx="176400" cy="770040"/>
          </a:xfrm>
          <a:prstGeom prst="line">
            <a:avLst/>
          </a:prstGeom>
          <a:ln w="28440">
            <a:solidFill>
              <a:srgbClr val="eeec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2" name="Text Box 16"/>
          <p:cNvSpPr/>
          <p:nvPr/>
        </p:nvSpPr>
        <p:spPr>
          <a:xfrm>
            <a:off x="6573960" y="2952720"/>
            <a:ext cx="9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omic Sans MS"/>
              </a:rPr>
              <a:t>Diego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3" name="Line 17"/>
          <p:cNvSpPr/>
          <p:nvPr/>
        </p:nvSpPr>
        <p:spPr>
          <a:xfrm>
            <a:off x="8042400" y="3360600"/>
            <a:ext cx="176040" cy="770040"/>
          </a:xfrm>
          <a:prstGeom prst="line">
            <a:avLst/>
          </a:prstGeom>
          <a:ln w="28440">
            <a:solidFill>
              <a:srgbClr val="eeec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4" name="Text Box 18"/>
          <p:cNvSpPr/>
          <p:nvPr/>
        </p:nvSpPr>
        <p:spPr>
          <a:xfrm>
            <a:off x="7575480" y="305748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omic Sans MS"/>
              </a:rPr>
              <a:t>Davia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83808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iform Circular Mo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peed is constan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irection is chang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cceleration toward center  a = v</a:t>
            </a:r>
            <a:r>
              <a:rPr b="0" lang="en-US" sz="23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/ 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ewton’s Second Law  F = m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36" name="Rectangle 2" descr=""/>
          <p:cNvPicPr/>
          <p:nvPr/>
        </p:nvPicPr>
        <p:blipFill>
          <a:blip r:embed="rId1"/>
          <a:stretch/>
        </p:blipFill>
        <p:spPr>
          <a:xfrm>
            <a:off x="731880" y="128520"/>
            <a:ext cx="7431120" cy="1150920"/>
          </a:xfrm>
          <a:prstGeom prst="rect">
            <a:avLst/>
          </a:prstGeom>
          <a:ln w="0">
            <a:noFill/>
          </a:ln>
        </p:spPr>
      </p:pic>
      <p:sp>
        <p:nvSpPr>
          <p:cNvPr id="637" name="Text Box 4"/>
          <p:cNvSpPr/>
          <p:nvPr/>
        </p:nvSpPr>
        <p:spPr>
          <a:xfrm>
            <a:off x="8723160" y="6583320"/>
            <a:ext cx="42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3"/>
          <p:cNvSpPr/>
          <p:nvPr/>
        </p:nvSpPr>
        <p:spPr>
          <a:xfrm>
            <a:off x="2336040" y="2895480"/>
            <a:ext cx="39571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Lucida Sans Unicode"/>
                <a:hlinkClick r:id="rId1"/>
              </a:rPr>
              <a:t>http://www.physicsclassroom.com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Lucida Sans Unicode"/>
                <a:hlinkClick r:id="rId2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9" name="TextBox 5">
            <a:hlinkClick r:id="rId3"/>
          </p:cNvPr>
          <p:cNvSpPr/>
          <p:nvPr/>
        </p:nvSpPr>
        <p:spPr>
          <a:xfrm>
            <a:off x="4191120" y="990720"/>
            <a:ext cx="2743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0" name="Rectangle 6"/>
          <p:cNvSpPr/>
          <p:nvPr/>
        </p:nvSpPr>
        <p:spPr>
          <a:xfrm>
            <a:off x="5257800" y="1371600"/>
            <a:ext cx="4572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Lucida Sans Unicode"/>
                <a:hlinkClick r:id="rId4"/>
              </a:rPr>
              <a:t>How does this apply to planets?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1" name="Rectangle 7"/>
          <p:cNvSpPr/>
          <p:nvPr/>
        </p:nvSpPr>
        <p:spPr>
          <a:xfrm>
            <a:off x="838080" y="5562720"/>
            <a:ext cx="86868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Lucida Sans Unicode"/>
                <a:hlinkClick r:id="rId5"/>
              </a:rPr>
              <a:t>http://hyperphysics.phy-astr.gsu.edu/hbase/hframe.htm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2" name="TextBox 8"/>
          <p:cNvSpPr/>
          <p:nvPr/>
        </p:nvSpPr>
        <p:spPr>
          <a:xfrm>
            <a:off x="0" y="228600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Check out this tutorial!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3" name="TextBox 9"/>
          <p:cNvSpPr/>
          <p:nvPr/>
        </p:nvSpPr>
        <p:spPr>
          <a:xfrm>
            <a:off x="1676520" y="68580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Click on this question to investigate!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4" name="TextBox 10"/>
          <p:cNvSpPr/>
          <p:nvPr/>
        </p:nvSpPr>
        <p:spPr>
          <a:xfrm>
            <a:off x="2057400" y="3809880"/>
            <a:ext cx="4648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Are you </a:t>
            </a:r>
            <a:r>
              <a:rPr b="1" i="1" lang="en-US" sz="3600" spc="-1" strike="noStrike">
                <a:solidFill>
                  <a:srgbClr val="000000"/>
                </a:solidFill>
                <a:latin typeface="Lucida Sans Unicode"/>
              </a:rPr>
              <a:t>HYPER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 enough to learn and link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1"/>
          <p:cNvSpPr/>
          <p:nvPr/>
        </p:nvSpPr>
        <p:spPr>
          <a:xfrm>
            <a:off x="1295280" y="3886200"/>
            <a:ext cx="6629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Lucida Sans Unicode"/>
                <a:hlinkClick r:id="rId1"/>
              </a:rPr>
              <a:t>http://www.animations.physics.unsw.edu.au/mechanics/chapter3_circularmotion.htm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6" name="TextBox 2"/>
          <p:cNvSpPr/>
          <p:nvPr/>
        </p:nvSpPr>
        <p:spPr>
          <a:xfrm>
            <a:off x="1371600" y="29718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Check out this site for simulations of circular moti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And so many other simulations!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Box 1"/>
          <p:cNvSpPr/>
          <p:nvPr/>
        </p:nvSpPr>
        <p:spPr>
          <a:xfrm>
            <a:off x="0" y="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Citation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8" name="TextBox 2"/>
          <p:cNvSpPr/>
          <p:nvPr/>
        </p:nvSpPr>
        <p:spPr>
          <a:xfrm>
            <a:off x="0" y="990720"/>
            <a:ext cx="8991720" cy="54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Graphics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Slides 9, 10, 11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Physics Text 1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Chapter 3 Vectors and Two-Dimensional Motion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Slides 12, 13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Physics Text 2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Video: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Planetary Orbits are Elliptical. Discovery Channel School. 2005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Discovery Education. 17 July 2009</a:t>
            </a:r>
            <a:br>
              <a:rPr sz="1200"/>
            </a:br>
            <a:r>
              <a:rPr b="0" lang="en-US" sz="1200" spc="-1" strike="noStrike" u="sng">
                <a:solidFill>
                  <a:srgbClr val="0000ff"/>
                </a:solidFill>
                <a:uFillTx/>
                <a:latin typeface="Lucida Sans Unicode"/>
                <a:hlinkClick r:id="rId1"/>
              </a:rPr>
              <a:t>http://streaming.discoveryeducation.com/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Websites: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http://hyperphysics.phy-astr.gsu.edu/hbase/orbv.html#co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http://www.physicsclassroom.com/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http://hyperphysics.phy-astr.gsu.edu/hbase/hframe.html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http://www.animations.physics.unsw.edu.au/mechanics/chapter3_circularmotion.html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lanetary_Orbits_are_Elliptical.asf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299280" cy="4724640"/>
          </a:xfrm>
          <a:prstGeom prst="rect">
            <a:avLst/>
          </a:prstGeom>
          <a:ln w="0">
            <a:noFill/>
          </a:ln>
        </p:spPr>
      </p:pic>
      <p:sp>
        <p:nvSpPr>
          <p:cNvPr id="474" name="TextBox 2"/>
          <p:cNvSpPr/>
          <p:nvPr/>
        </p:nvSpPr>
        <p:spPr>
          <a:xfrm>
            <a:off x="1093680" y="609480"/>
            <a:ext cx="64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Sans Unicode"/>
              </a:rPr>
              <a:t>Click anywhere in the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black area </a:t>
            </a:r>
            <a:r>
              <a:rPr b="1" lang="en-US" sz="1800" spc="-1" strike="noStrike">
                <a:solidFill>
                  <a:srgbClr val="ff0000"/>
                </a:solidFill>
                <a:latin typeface="Lucida Sans Unicode"/>
              </a:rPr>
              <a:t>below to see a movie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Line 2"/>
          <p:cNvSpPr/>
          <p:nvPr/>
        </p:nvSpPr>
        <p:spPr>
          <a:xfrm>
            <a:off x="4200480" y="3467160"/>
            <a:ext cx="2524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Oval 3"/>
          <p:cNvSpPr/>
          <p:nvPr/>
        </p:nvSpPr>
        <p:spPr>
          <a:xfrm>
            <a:off x="6572160" y="3333600"/>
            <a:ext cx="266760" cy="2764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Line 4"/>
          <p:cNvSpPr/>
          <p:nvPr/>
        </p:nvSpPr>
        <p:spPr>
          <a:xfrm flipH="1" flipV="1">
            <a:off x="6695640" y="1886040"/>
            <a:ext cx="9720" cy="1495440"/>
          </a:xfrm>
          <a:prstGeom prst="line">
            <a:avLst/>
          </a:prstGeom>
          <a:ln w="28440">
            <a:solidFill>
              <a:srgbClr val="c0504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Text Box 5"/>
          <p:cNvSpPr/>
          <p:nvPr/>
        </p:nvSpPr>
        <p:spPr>
          <a:xfrm>
            <a:off x="5787360" y="212724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ce1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Text Box 6"/>
          <p:cNvSpPr/>
          <p:nvPr/>
        </p:nvSpPr>
        <p:spPr>
          <a:xfrm>
            <a:off x="6250680" y="1584360"/>
            <a:ext cx="9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ce1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Text Box 7"/>
          <p:cNvSpPr/>
          <p:nvPr/>
        </p:nvSpPr>
        <p:spPr>
          <a:xfrm>
            <a:off x="6697800" y="201312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ce1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Arc 8"/>
          <p:cNvSpPr/>
          <p:nvPr/>
        </p:nvSpPr>
        <p:spPr>
          <a:xfrm>
            <a:off x="6000840" y="2232000"/>
            <a:ext cx="689040" cy="1666800"/>
          </a:xfrm>
          <a:custGeom>
            <a:avLst/>
            <a:gdLst>
              <a:gd name="textAreaLeft" fmla="*/ 0 w 689040"/>
              <a:gd name="textAreaRight" fmla="*/ 689400 w 689040"/>
              <a:gd name="textAreaTop" fmla="*/ 0 h 1666800"/>
              <a:gd name="textAreaBottom" fmla="*/ 1667160 h 1666800"/>
            </a:gdLst>
            <a:ahLst/>
            <a:rect l="textAreaLeft" t="textAreaTop" r="textAreaRight" b="textAreaBottom"/>
            <a:pathLst>
              <a:path fill="none" w="20956" h="18124">
                <a:moveTo>
                  <a:pt x="11750" y="0"/>
                </a:moveTo>
                <a:cubicBezTo>
                  <a:pt x="16341" y="2976"/>
                  <a:pt x="19631" y="7583"/>
                  <a:pt x="20956" y="12890"/>
                </a:cubicBezTo>
              </a:path>
              <a:path stroke="0" w="20956" h="18124">
                <a:moveTo>
                  <a:pt x="11750" y="0"/>
                </a:moveTo>
                <a:cubicBezTo>
                  <a:pt x="16341" y="2976"/>
                  <a:pt x="19631" y="7583"/>
                  <a:pt x="20956" y="12890"/>
                </a:cubicBezTo>
                <a:lnTo>
                  <a:pt x="0" y="18124"/>
                </a:lnTo>
                <a:close/>
              </a:path>
            </a:pathLst>
          </a:custGeom>
          <a:noFill/>
          <a:ln w="28440">
            <a:solidFill>
              <a:srgbClr val="c0504d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Oval 9"/>
          <p:cNvSpPr/>
          <p:nvPr/>
        </p:nvSpPr>
        <p:spPr>
          <a:xfrm>
            <a:off x="1714680" y="1000080"/>
            <a:ext cx="4971960" cy="497196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Arc 10"/>
          <p:cNvSpPr/>
          <p:nvPr/>
        </p:nvSpPr>
        <p:spPr>
          <a:xfrm flipH="1">
            <a:off x="6715080" y="2241720"/>
            <a:ext cx="689040" cy="1666800"/>
          </a:xfrm>
          <a:custGeom>
            <a:avLst/>
            <a:gdLst>
              <a:gd name="textAreaLeft" fmla="*/ 360 w 689040"/>
              <a:gd name="textAreaRight" fmla="*/ 689760 w 689040"/>
              <a:gd name="textAreaTop" fmla="*/ 0 h 1666800"/>
              <a:gd name="textAreaBottom" fmla="*/ 1667160 h 1666800"/>
            </a:gdLst>
            <a:ahLst/>
            <a:rect l="textAreaLeft" t="textAreaTop" r="textAreaRight" b="textAreaBottom"/>
            <a:pathLst>
              <a:path fill="none" w="20956" h="18124">
                <a:moveTo>
                  <a:pt x="11750" y="0"/>
                </a:moveTo>
                <a:cubicBezTo>
                  <a:pt x="16341" y="2976"/>
                  <a:pt x="19631" y="7583"/>
                  <a:pt x="20956" y="12890"/>
                </a:cubicBezTo>
              </a:path>
              <a:path stroke="0" w="20956" h="18124">
                <a:moveTo>
                  <a:pt x="11750" y="0"/>
                </a:moveTo>
                <a:cubicBezTo>
                  <a:pt x="16341" y="2976"/>
                  <a:pt x="19631" y="7583"/>
                  <a:pt x="20956" y="12890"/>
                </a:cubicBezTo>
                <a:lnTo>
                  <a:pt x="0" y="18124"/>
                </a:lnTo>
                <a:close/>
              </a:path>
            </a:pathLst>
          </a:custGeom>
          <a:noFill/>
          <a:ln w="28440">
            <a:solidFill>
              <a:srgbClr val="c0504d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4" name="Rectangle 11" descr=""/>
          <p:cNvPicPr/>
          <p:nvPr/>
        </p:nvPicPr>
        <p:blipFill>
          <a:blip r:embed="rId1"/>
          <a:stretch/>
        </p:blipFill>
        <p:spPr>
          <a:xfrm>
            <a:off x="396720" y="-189000"/>
            <a:ext cx="7620120" cy="1341360"/>
          </a:xfrm>
          <a:prstGeom prst="rect">
            <a:avLst/>
          </a:prstGeom>
          <a:ln w="0">
            <a:noFill/>
          </a:ln>
        </p:spPr>
      </p:pic>
      <p:sp>
        <p:nvSpPr>
          <p:cNvPr id="485" name="Text Box 12"/>
          <p:cNvSpPr/>
          <p:nvPr/>
        </p:nvSpPr>
        <p:spPr>
          <a:xfrm>
            <a:off x="1224000" y="5670720"/>
            <a:ext cx="724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omic Sans MS"/>
              </a:rPr>
              <a:t>A ball is going around in a circle attached to a string. If the string breaks at the instant shown, which path will the ball follow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Text Box 13"/>
          <p:cNvSpPr/>
          <p:nvPr/>
        </p:nvSpPr>
        <p:spPr>
          <a:xfrm>
            <a:off x="8723160" y="6583320"/>
            <a:ext cx="4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Oval 3"/>
          <p:cNvSpPr/>
          <p:nvPr/>
        </p:nvSpPr>
        <p:spPr>
          <a:xfrm>
            <a:off x="6572160" y="3333600"/>
            <a:ext cx="266760" cy="2764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8" name="Line 4"/>
          <p:cNvSpPr/>
          <p:nvPr/>
        </p:nvSpPr>
        <p:spPr>
          <a:xfrm flipH="1" flipV="1">
            <a:off x="6695640" y="1886040"/>
            <a:ext cx="9720" cy="1495440"/>
          </a:xfrm>
          <a:prstGeom prst="line">
            <a:avLst/>
          </a:prstGeom>
          <a:ln w="28440">
            <a:solidFill>
              <a:srgbClr val="c0504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9" name="Text Box 5"/>
          <p:cNvSpPr/>
          <p:nvPr/>
        </p:nvSpPr>
        <p:spPr>
          <a:xfrm>
            <a:off x="5787360" y="212724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ce1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Text Box 6"/>
          <p:cNvSpPr/>
          <p:nvPr/>
        </p:nvSpPr>
        <p:spPr>
          <a:xfrm>
            <a:off x="6250680" y="1584360"/>
            <a:ext cx="9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ce1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Text Box 7"/>
          <p:cNvSpPr/>
          <p:nvPr/>
        </p:nvSpPr>
        <p:spPr>
          <a:xfrm>
            <a:off x="6697800" y="201312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ce1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2" name="Arc 8"/>
          <p:cNvSpPr/>
          <p:nvPr/>
        </p:nvSpPr>
        <p:spPr>
          <a:xfrm>
            <a:off x="6000840" y="2232000"/>
            <a:ext cx="689040" cy="1666800"/>
          </a:xfrm>
          <a:custGeom>
            <a:avLst/>
            <a:gdLst>
              <a:gd name="textAreaLeft" fmla="*/ 0 w 689040"/>
              <a:gd name="textAreaRight" fmla="*/ 689400 w 689040"/>
              <a:gd name="textAreaTop" fmla="*/ 0 h 1666800"/>
              <a:gd name="textAreaBottom" fmla="*/ 1667160 h 1666800"/>
            </a:gdLst>
            <a:ahLst/>
            <a:rect l="textAreaLeft" t="textAreaTop" r="textAreaRight" b="textAreaBottom"/>
            <a:pathLst>
              <a:path fill="none" w="20956" h="18124">
                <a:moveTo>
                  <a:pt x="11750" y="0"/>
                </a:moveTo>
                <a:cubicBezTo>
                  <a:pt x="16341" y="2976"/>
                  <a:pt x="19631" y="7583"/>
                  <a:pt x="20956" y="12890"/>
                </a:cubicBezTo>
              </a:path>
              <a:path stroke="0" w="20956" h="18124">
                <a:moveTo>
                  <a:pt x="11750" y="0"/>
                </a:moveTo>
                <a:cubicBezTo>
                  <a:pt x="16341" y="2976"/>
                  <a:pt x="19631" y="7583"/>
                  <a:pt x="20956" y="12890"/>
                </a:cubicBezTo>
                <a:lnTo>
                  <a:pt x="0" y="18124"/>
                </a:lnTo>
                <a:close/>
              </a:path>
            </a:pathLst>
          </a:custGeom>
          <a:noFill/>
          <a:ln w="28440">
            <a:solidFill>
              <a:srgbClr val="c0504d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3" name="Oval 9"/>
          <p:cNvSpPr/>
          <p:nvPr/>
        </p:nvSpPr>
        <p:spPr>
          <a:xfrm>
            <a:off x="1714680" y="1000080"/>
            <a:ext cx="4971960" cy="497196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Arc 10"/>
          <p:cNvSpPr/>
          <p:nvPr/>
        </p:nvSpPr>
        <p:spPr>
          <a:xfrm flipH="1">
            <a:off x="6715080" y="2241720"/>
            <a:ext cx="689040" cy="1666800"/>
          </a:xfrm>
          <a:custGeom>
            <a:avLst/>
            <a:gdLst>
              <a:gd name="textAreaLeft" fmla="*/ 360 w 689040"/>
              <a:gd name="textAreaRight" fmla="*/ 689760 w 689040"/>
              <a:gd name="textAreaTop" fmla="*/ 0 h 1666800"/>
              <a:gd name="textAreaBottom" fmla="*/ 1667160 h 1666800"/>
            </a:gdLst>
            <a:ahLst/>
            <a:rect l="textAreaLeft" t="textAreaTop" r="textAreaRight" b="textAreaBottom"/>
            <a:pathLst>
              <a:path fill="none" w="20956" h="18124">
                <a:moveTo>
                  <a:pt x="11750" y="0"/>
                </a:moveTo>
                <a:cubicBezTo>
                  <a:pt x="16341" y="2976"/>
                  <a:pt x="19631" y="7583"/>
                  <a:pt x="20956" y="12890"/>
                </a:cubicBezTo>
              </a:path>
              <a:path stroke="0" w="20956" h="18124">
                <a:moveTo>
                  <a:pt x="11750" y="0"/>
                </a:moveTo>
                <a:cubicBezTo>
                  <a:pt x="16341" y="2976"/>
                  <a:pt x="19631" y="7583"/>
                  <a:pt x="20956" y="12890"/>
                </a:cubicBezTo>
                <a:lnTo>
                  <a:pt x="0" y="18124"/>
                </a:lnTo>
                <a:close/>
              </a:path>
            </a:pathLst>
          </a:custGeom>
          <a:noFill/>
          <a:ln w="28440">
            <a:solidFill>
              <a:srgbClr val="c0504d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5" name="Rectangle 11" descr=""/>
          <p:cNvPicPr/>
          <p:nvPr/>
        </p:nvPicPr>
        <p:blipFill>
          <a:blip r:embed="rId1"/>
          <a:stretch/>
        </p:blipFill>
        <p:spPr>
          <a:xfrm>
            <a:off x="396720" y="-189000"/>
            <a:ext cx="7620120" cy="134136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12"/>
          <p:cNvSpPr/>
          <p:nvPr/>
        </p:nvSpPr>
        <p:spPr>
          <a:xfrm>
            <a:off x="152280" y="426708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omic Sans MS"/>
              </a:rPr>
              <a:t>A planet is going in a circular orbit around a star. If the star was to suddenly disappear at the instant shown, which path will the planet follow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7" name="Text Box 13"/>
          <p:cNvSpPr/>
          <p:nvPr/>
        </p:nvSpPr>
        <p:spPr>
          <a:xfrm>
            <a:off x="8723160" y="6583320"/>
            <a:ext cx="4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Explosion 2 13"/>
          <p:cNvSpPr/>
          <p:nvPr/>
        </p:nvSpPr>
        <p:spPr>
          <a:xfrm>
            <a:off x="3809880" y="2895480"/>
            <a:ext cx="914400" cy="914400"/>
          </a:xfrm>
          <a:prstGeom prst="irregularSeal2">
            <a:avLst/>
          </a:prstGeom>
          <a:solidFill>
            <a:srgbClr val="4f81bd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Line 2"/>
          <p:cNvSpPr/>
          <p:nvPr/>
        </p:nvSpPr>
        <p:spPr>
          <a:xfrm>
            <a:off x="4200480" y="3467160"/>
            <a:ext cx="2524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Oval 3"/>
          <p:cNvSpPr/>
          <p:nvPr/>
        </p:nvSpPr>
        <p:spPr>
          <a:xfrm>
            <a:off x="6572160" y="3333600"/>
            <a:ext cx="266760" cy="2764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Line 4"/>
          <p:cNvSpPr/>
          <p:nvPr/>
        </p:nvSpPr>
        <p:spPr>
          <a:xfrm flipH="1" flipV="1">
            <a:off x="6695640" y="1886040"/>
            <a:ext cx="9720" cy="1495440"/>
          </a:xfrm>
          <a:prstGeom prst="line">
            <a:avLst/>
          </a:prstGeom>
          <a:ln w="28440">
            <a:solidFill>
              <a:srgbClr val="c0504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5787360" y="212724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ce1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Text Box 6"/>
          <p:cNvSpPr/>
          <p:nvPr/>
        </p:nvSpPr>
        <p:spPr>
          <a:xfrm>
            <a:off x="6250680" y="1584360"/>
            <a:ext cx="9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ce1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4" name="Text Box 7"/>
          <p:cNvSpPr/>
          <p:nvPr/>
        </p:nvSpPr>
        <p:spPr>
          <a:xfrm>
            <a:off x="6697800" y="201312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ce1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Arc 8"/>
          <p:cNvSpPr/>
          <p:nvPr/>
        </p:nvSpPr>
        <p:spPr>
          <a:xfrm>
            <a:off x="6000840" y="2232000"/>
            <a:ext cx="689040" cy="1666800"/>
          </a:xfrm>
          <a:custGeom>
            <a:avLst/>
            <a:gdLst>
              <a:gd name="textAreaLeft" fmla="*/ 0 w 689040"/>
              <a:gd name="textAreaRight" fmla="*/ 689400 w 689040"/>
              <a:gd name="textAreaTop" fmla="*/ 0 h 1666800"/>
              <a:gd name="textAreaBottom" fmla="*/ 1667160 h 1666800"/>
            </a:gdLst>
            <a:ahLst/>
            <a:rect l="textAreaLeft" t="textAreaTop" r="textAreaRight" b="textAreaBottom"/>
            <a:pathLst>
              <a:path fill="none" w="20956" h="18124">
                <a:moveTo>
                  <a:pt x="11750" y="0"/>
                </a:moveTo>
                <a:cubicBezTo>
                  <a:pt x="16341" y="2976"/>
                  <a:pt x="19631" y="7583"/>
                  <a:pt x="20956" y="12890"/>
                </a:cubicBezTo>
              </a:path>
              <a:path stroke="0" w="20956" h="18124">
                <a:moveTo>
                  <a:pt x="11750" y="0"/>
                </a:moveTo>
                <a:cubicBezTo>
                  <a:pt x="16341" y="2976"/>
                  <a:pt x="19631" y="7583"/>
                  <a:pt x="20956" y="12890"/>
                </a:cubicBezTo>
                <a:lnTo>
                  <a:pt x="0" y="18124"/>
                </a:lnTo>
                <a:close/>
              </a:path>
            </a:pathLst>
          </a:custGeom>
          <a:noFill/>
          <a:ln w="28440">
            <a:solidFill>
              <a:srgbClr val="c0504d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Oval 9"/>
          <p:cNvSpPr/>
          <p:nvPr/>
        </p:nvSpPr>
        <p:spPr>
          <a:xfrm>
            <a:off x="1714680" y="1000080"/>
            <a:ext cx="4971960" cy="497196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Arc 10"/>
          <p:cNvSpPr/>
          <p:nvPr/>
        </p:nvSpPr>
        <p:spPr>
          <a:xfrm flipH="1">
            <a:off x="6715080" y="2241720"/>
            <a:ext cx="689040" cy="1666800"/>
          </a:xfrm>
          <a:custGeom>
            <a:avLst/>
            <a:gdLst>
              <a:gd name="textAreaLeft" fmla="*/ 360 w 689040"/>
              <a:gd name="textAreaRight" fmla="*/ 689760 w 689040"/>
              <a:gd name="textAreaTop" fmla="*/ 0 h 1666800"/>
              <a:gd name="textAreaBottom" fmla="*/ 1667160 h 1666800"/>
            </a:gdLst>
            <a:ahLst/>
            <a:rect l="textAreaLeft" t="textAreaTop" r="textAreaRight" b="textAreaBottom"/>
            <a:pathLst>
              <a:path fill="none" w="20956" h="18124">
                <a:moveTo>
                  <a:pt x="11750" y="0"/>
                </a:moveTo>
                <a:cubicBezTo>
                  <a:pt x="16341" y="2976"/>
                  <a:pt x="19631" y="7583"/>
                  <a:pt x="20956" y="12890"/>
                </a:cubicBezTo>
              </a:path>
              <a:path stroke="0" w="20956" h="18124">
                <a:moveTo>
                  <a:pt x="11750" y="0"/>
                </a:moveTo>
                <a:cubicBezTo>
                  <a:pt x="16341" y="2976"/>
                  <a:pt x="19631" y="7583"/>
                  <a:pt x="20956" y="12890"/>
                </a:cubicBezTo>
                <a:lnTo>
                  <a:pt x="0" y="18124"/>
                </a:lnTo>
                <a:close/>
              </a:path>
            </a:pathLst>
          </a:custGeom>
          <a:noFill/>
          <a:ln w="28440">
            <a:solidFill>
              <a:srgbClr val="c0504d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8" name="Rectangle 11" descr=""/>
          <p:cNvPicPr/>
          <p:nvPr/>
        </p:nvPicPr>
        <p:blipFill>
          <a:blip r:embed="rId1"/>
          <a:stretch/>
        </p:blipFill>
        <p:spPr>
          <a:xfrm>
            <a:off x="396720" y="-189000"/>
            <a:ext cx="7620120" cy="1341360"/>
          </a:xfrm>
          <a:prstGeom prst="rect">
            <a:avLst/>
          </a:prstGeom>
          <a:ln w="0">
            <a:noFill/>
          </a:ln>
        </p:spPr>
      </p:pic>
      <p:sp>
        <p:nvSpPr>
          <p:cNvPr id="509" name="Text Box 12"/>
          <p:cNvSpPr/>
          <p:nvPr/>
        </p:nvSpPr>
        <p:spPr>
          <a:xfrm>
            <a:off x="990720" y="4038480"/>
            <a:ext cx="7245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omic Sans MS"/>
              </a:rPr>
              <a:t>A ball is going around in a horizontal circle on a frictionless table attached to a string. If the string breaks at the instant shown, which path will the ball follow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Text Box 13"/>
          <p:cNvSpPr/>
          <p:nvPr/>
        </p:nvSpPr>
        <p:spPr>
          <a:xfrm>
            <a:off x="8723160" y="6583320"/>
            <a:ext cx="4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Line 2"/>
          <p:cNvSpPr/>
          <p:nvPr/>
        </p:nvSpPr>
        <p:spPr>
          <a:xfrm>
            <a:off x="3657600" y="1905120"/>
            <a:ext cx="0" cy="1676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2" name="AutoShape 3"/>
          <p:cNvSpPr/>
          <p:nvPr/>
        </p:nvSpPr>
        <p:spPr>
          <a:xfrm>
            <a:off x="343080" y="1195560"/>
            <a:ext cx="6629400" cy="1623960"/>
          </a:xfrm>
          <a:prstGeom prst="parallelogram">
            <a:avLst>
              <a:gd name="adj" fmla="val 102056"/>
            </a:avLst>
          </a:prstGeom>
          <a:solidFill>
            <a:srgbClr val="4f81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43080" y="168120"/>
            <a:ext cx="342720" cy="39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5256360" y="76320"/>
            <a:ext cx="31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新細明體"/>
              </a:rPr>
              <a:t>Uniform Circular mo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Oval 6"/>
          <p:cNvSpPr/>
          <p:nvPr/>
        </p:nvSpPr>
        <p:spPr>
          <a:xfrm>
            <a:off x="1752480" y="1371600"/>
            <a:ext cx="3810240" cy="114300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6" name="Text Box 7"/>
          <p:cNvSpPr/>
          <p:nvPr/>
        </p:nvSpPr>
        <p:spPr>
          <a:xfrm>
            <a:off x="835920" y="565200"/>
            <a:ext cx="46720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Uniform circular motion in a horizontal plan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7" name="Line 8"/>
          <p:cNvSpPr/>
          <p:nvPr/>
        </p:nvSpPr>
        <p:spPr>
          <a:xfrm>
            <a:off x="3657600" y="1905120"/>
            <a:ext cx="1523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Oval 9"/>
          <p:cNvSpPr/>
          <p:nvPr/>
        </p:nvSpPr>
        <p:spPr>
          <a:xfrm>
            <a:off x="5067360" y="2171880"/>
            <a:ext cx="228600" cy="228600"/>
          </a:xfrm>
          <a:prstGeom prst="ellipse">
            <a:avLst/>
          </a:prstGeom>
          <a:solidFill>
            <a:srgbClr val="1f49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Rectangle 10"/>
          <p:cNvSpPr/>
          <p:nvPr/>
        </p:nvSpPr>
        <p:spPr>
          <a:xfrm>
            <a:off x="3475080" y="3429000"/>
            <a:ext cx="365040" cy="304920"/>
          </a:xfrm>
          <a:prstGeom prst="rect">
            <a:avLst/>
          </a:prstGeom>
          <a:solidFill>
            <a:srgbClr val="1f49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520" name="Group 11"/>
          <p:cNvGrpSpPr/>
          <p:nvPr/>
        </p:nvGrpSpPr>
        <p:grpSpPr>
          <a:xfrm>
            <a:off x="5295960" y="1432080"/>
            <a:ext cx="912240" cy="739440"/>
            <a:chOff x="5295960" y="1432080"/>
            <a:chExt cx="912240" cy="739440"/>
          </a:xfrm>
        </p:grpSpPr>
        <p:sp>
          <p:nvSpPr>
            <p:cNvPr id="521" name="Line 12"/>
            <p:cNvSpPr/>
            <p:nvPr/>
          </p:nvSpPr>
          <p:spPr>
            <a:xfrm flipV="1">
              <a:off x="5295960" y="1904760"/>
              <a:ext cx="57132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22" name="Text Box 13"/>
            <p:cNvSpPr/>
            <p:nvPr/>
          </p:nvSpPr>
          <p:spPr>
            <a:xfrm>
              <a:off x="5869080" y="1432080"/>
              <a:ext cx="339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v</a:t>
              </a:r>
              <a:endParaRPr b="0" lang="en-US" sz="25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523" name="Group 14"/>
          <p:cNvGrpSpPr/>
          <p:nvPr/>
        </p:nvGrpSpPr>
        <p:grpSpPr>
          <a:xfrm>
            <a:off x="5181480" y="2400480"/>
            <a:ext cx="673920" cy="1182600"/>
            <a:chOff x="5181480" y="2400480"/>
            <a:chExt cx="673920" cy="1182600"/>
          </a:xfrm>
        </p:grpSpPr>
        <p:sp>
          <p:nvSpPr>
            <p:cNvPr id="524" name="Line 15"/>
            <p:cNvSpPr/>
            <p:nvPr/>
          </p:nvSpPr>
          <p:spPr>
            <a:xfrm>
              <a:off x="5181480" y="2400480"/>
              <a:ext cx="0" cy="87624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25" name="Text Box 16"/>
            <p:cNvSpPr/>
            <p:nvPr/>
          </p:nvSpPr>
          <p:spPr>
            <a:xfrm>
              <a:off x="5269320" y="3108240"/>
              <a:ext cx="5860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mg</a:t>
              </a:r>
              <a:endParaRPr b="0" lang="en-US" sz="25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526" name="Group 17"/>
          <p:cNvGrpSpPr/>
          <p:nvPr/>
        </p:nvGrpSpPr>
        <p:grpSpPr>
          <a:xfrm>
            <a:off x="5181480" y="958680"/>
            <a:ext cx="496800" cy="1327320"/>
            <a:chOff x="5181480" y="958680"/>
            <a:chExt cx="496800" cy="1327320"/>
          </a:xfrm>
        </p:grpSpPr>
        <p:sp>
          <p:nvSpPr>
            <p:cNvPr id="527" name="Line 18"/>
            <p:cNvSpPr/>
            <p:nvPr/>
          </p:nvSpPr>
          <p:spPr>
            <a:xfrm flipV="1">
              <a:off x="5181480" y="1371600"/>
              <a:ext cx="0" cy="91440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28" name="Text Box 19"/>
            <p:cNvSpPr/>
            <p:nvPr/>
          </p:nvSpPr>
          <p:spPr>
            <a:xfrm>
              <a:off x="5268960" y="958680"/>
              <a:ext cx="4093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N</a:t>
              </a:r>
              <a:endParaRPr b="0" lang="en-US" sz="25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529" name="Group 20"/>
          <p:cNvGrpSpPr/>
          <p:nvPr/>
        </p:nvGrpSpPr>
        <p:grpSpPr>
          <a:xfrm>
            <a:off x="4038480" y="1584360"/>
            <a:ext cx="1028880" cy="587160"/>
            <a:chOff x="4038480" y="1584360"/>
            <a:chExt cx="1028880" cy="587160"/>
          </a:xfrm>
        </p:grpSpPr>
        <p:sp>
          <p:nvSpPr>
            <p:cNvPr id="530" name="Line 21"/>
            <p:cNvSpPr/>
            <p:nvPr/>
          </p:nvSpPr>
          <p:spPr>
            <a:xfrm flipH="1" flipV="1">
              <a:off x="4038480" y="1904760"/>
              <a:ext cx="1028880" cy="26676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31" name="Text Box 22"/>
            <p:cNvSpPr/>
            <p:nvPr/>
          </p:nvSpPr>
          <p:spPr>
            <a:xfrm>
              <a:off x="4424400" y="1584360"/>
              <a:ext cx="3744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532" name="Text Box 23"/>
          <p:cNvSpPr/>
          <p:nvPr/>
        </p:nvSpPr>
        <p:spPr>
          <a:xfrm>
            <a:off x="4040640" y="1935000"/>
            <a:ext cx="320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Text Box 24"/>
          <p:cNvSpPr/>
          <p:nvPr/>
        </p:nvSpPr>
        <p:spPr>
          <a:xfrm>
            <a:off x="5644440" y="2278080"/>
            <a:ext cx="444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Text Box 25"/>
          <p:cNvSpPr/>
          <p:nvPr/>
        </p:nvSpPr>
        <p:spPr>
          <a:xfrm>
            <a:off x="3901680" y="3497400"/>
            <a:ext cx="57672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w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Text Box 26"/>
          <p:cNvSpPr/>
          <p:nvPr/>
        </p:nvSpPr>
        <p:spPr>
          <a:xfrm>
            <a:off x="6550920" y="1630440"/>
            <a:ext cx="1372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N = </a:t>
            </a:r>
            <a:r>
              <a:rPr b="1" lang="en-US" sz="30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mg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Text Box 27"/>
          <p:cNvSpPr/>
          <p:nvPr/>
        </p:nvSpPr>
        <p:spPr>
          <a:xfrm>
            <a:off x="6479280" y="2316240"/>
            <a:ext cx="233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Net force = T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Text Box 28"/>
          <p:cNvSpPr/>
          <p:nvPr/>
        </p:nvSpPr>
        <p:spPr>
          <a:xfrm>
            <a:off x="6507360" y="3032280"/>
            <a:ext cx="2277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504d"/>
                </a:solidFill>
                <a:latin typeface="Times New Roman"/>
                <a:ea typeface="新細明體"/>
              </a:rPr>
              <a:t>F = ma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504d"/>
                </a:solidFill>
                <a:latin typeface="Times New Roman"/>
                <a:ea typeface="新細明體"/>
              </a:rPr>
              <a:t>T = m (v</a:t>
            </a:r>
            <a:r>
              <a:rPr b="1" lang="en-US" sz="3000" spc="-1" strike="noStrike" baseline="30000">
                <a:solidFill>
                  <a:srgbClr val="c0504d"/>
                </a:solidFill>
                <a:latin typeface="Times New Roman"/>
                <a:ea typeface="新細明體"/>
              </a:rPr>
              <a:t>2</a:t>
            </a:r>
            <a:r>
              <a:rPr b="1" lang="en-US" sz="3000" spc="-1" strike="noStrike">
                <a:solidFill>
                  <a:srgbClr val="c0504d"/>
                </a:solidFill>
                <a:latin typeface="Times New Roman"/>
                <a:ea typeface="新細明體"/>
              </a:rPr>
              <a:t> / r)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8" name="Text Box 30"/>
          <p:cNvSpPr/>
          <p:nvPr/>
        </p:nvSpPr>
        <p:spPr>
          <a:xfrm>
            <a:off x="638280" y="4400640"/>
            <a:ext cx="5452920" cy="107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 =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新細明體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  <a:ea typeface="新細明體"/>
              </a:rPr>
              <a:t>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 as it is at rest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 = m v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/ r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9" name="Text Box 31"/>
          <p:cNvSpPr/>
          <p:nvPr/>
        </p:nvSpPr>
        <p:spPr>
          <a:xfrm>
            <a:off x="6629400" y="1066680"/>
            <a:ext cx="16002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= mass (downward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2"/>
          <p:cNvSpPr/>
          <p:nvPr/>
        </p:nvSpPr>
        <p:spPr>
          <a:xfrm>
            <a:off x="343080" y="168120"/>
            <a:ext cx="342720" cy="39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Text Box 3"/>
          <p:cNvSpPr/>
          <p:nvPr/>
        </p:nvSpPr>
        <p:spPr>
          <a:xfrm>
            <a:off x="341280" y="168120"/>
            <a:ext cx="31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Uniform Circular mo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Text Box 4"/>
          <p:cNvSpPr/>
          <p:nvPr/>
        </p:nvSpPr>
        <p:spPr>
          <a:xfrm>
            <a:off x="835920" y="565200"/>
            <a:ext cx="46720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Uniform circular motion in a horizontal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plan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543" name="Group 5"/>
          <p:cNvGrpSpPr/>
          <p:nvPr/>
        </p:nvGrpSpPr>
        <p:grpSpPr>
          <a:xfrm>
            <a:off x="343080" y="1081080"/>
            <a:ext cx="4228920" cy="1824840"/>
            <a:chOff x="343080" y="1081080"/>
            <a:chExt cx="4228920" cy="1824840"/>
          </a:xfrm>
        </p:grpSpPr>
        <p:sp>
          <p:nvSpPr>
            <p:cNvPr id="544" name="Line 6"/>
            <p:cNvSpPr/>
            <p:nvPr/>
          </p:nvSpPr>
          <p:spPr>
            <a:xfrm>
              <a:off x="2457360" y="1530000"/>
              <a:ext cx="0" cy="97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45" name="AutoShape 7"/>
            <p:cNvSpPr/>
            <p:nvPr/>
          </p:nvSpPr>
          <p:spPr>
            <a:xfrm>
              <a:off x="343080" y="1118520"/>
              <a:ext cx="4228920" cy="941040"/>
            </a:xfrm>
            <a:prstGeom prst="parallelogram">
              <a:avLst>
                <a:gd name="adj" fmla="val 112347"/>
              </a:avLst>
            </a:prstGeom>
            <a:solidFill>
              <a:srgbClr val="4f81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46" name="Oval 8"/>
            <p:cNvSpPr/>
            <p:nvPr/>
          </p:nvSpPr>
          <p:spPr>
            <a:xfrm>
              <a:off x="1242000" y="1220760"/>
              <a:ext cx="2430360" cy="6624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47" name="Line 9"/>
            <p:cNvSpPr/>
            <p:nvPr/>
          </p:nvSpPr>
          <p:spPr>
            <a:xfrm>
              <a:off x="2457360" y="1530000"/>
              <a:ext cx="972000" cy="22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48" name="Oval 10"/>
            <p:cNvSpPr/>
            <p:nvPr/>
          </p:nvSpPr>
          <p:spPr>
            <a:xfrm>
              <a:off x="3356640" y="1684800"/>
              <a:ext cx="145800" cy="132480"/>
            </a:xfrm>
            <a:prstGeom prst="ellipse">
              <a:avLst/>
            </a:prstGeom>
            <a:solidFill>
              <a:srgbClr val="1f49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49" name="Rectangle 11"/>
            <p:cNvSpPr/>
            <p:nvPr/>
          </p:nvSpPr>
          <p:spPr>
            <a:xfrm>
              <a:off x="2340720" y="2413440"/>
              <a:ext cx="232560" cy="176400"/>
            </a:xfrm>
            <a:prstGeom prst="rect">
              <a:avLst/>
            </a:prstGeom>
            <a:solidFill>
              <a:srgbClr val="1f49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50" name="Line 12"/>
            <p:cNvSpPr/>
            <p:nvPr/>
          </p:nvSpPr>
          <p:spPr>
            <a:xfrm flipV="1">
              <a:off x="3502440" y="1529640"/>
              <a:ext cx="364320" cy="15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51" name="Text Box 13"/>
            <p:cNvSpPr/>
            <p:nvPr/>
          </p:nvSpPr>
          <p:spPr>
            <a:xfrm>
              <a:off x="3839760" y="1355040"/>
              <a:ext cx="2768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v</a:t>
              </a:r>
              <a:endParaRPr b="0" lang="en-US" sz="15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52" name="Line 14"/>
            <p:cNvSpPr/>
            <p:nvPr/>
          </p:nvSpPr>
          <p:spPr>
            <a:xfrm flipV="1">
              <a:off x="3429360" y="1220760"/>
              <a:ext cx="0" cy="52992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53" name="Line 15"/>
            <p:cNvSpPr/>
            <p:nvPr/>
          </p:nvSpPr>
          <p:spPr>
            <a:xfrm>
              <a:off x="3429360" y="1817280"/>
              <a:ext cx="0" cy="50760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54" name="Line 16"/>
            <p:cNvSpPr/>
            <p:nvPr/>
          </p:nvSpPr>
          <p:spPr>
            <a:xfrm flipH="1" flipV="1">
              <a:off x="2700000" y="1529640"/>
              <a:ext cx="656280" cy="15444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55" name="Text Box 17"/>
            <p:cNvSpPr/>
            <p:nvPr/>
          </p:nvSpPr>
          <p:spPr>
            <a:xfrm>
              <a:off x="3460320" y="2326680"/>
              <a:ext cx="4244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mg</a:t>
              </a:r>
              <a:endParaRPr b="0" lang="en-US" sz="15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56" name="Text Box 18"/>
            <p:cNvSpPr/>
            <p:nvPr/>
          </p:nvSpPr>
          <p:spPr>
            <a:xfrm>
              <a:off x="3456360" y="1081080"/>
              <a:ext cx="317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57" name="Text Box 19"/>
            <p:cNvSpPr/>
            <p:nvPr/>
          </p:nvSpPr>
          <p:spPr>
            <a:xfrm>
              <a:off x="2917440" y="1442520"/>
              <a:ext cx="296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58" name="Text Box 20"/>
            <p:cNvSpPr/>
            <p:nvPr/>
          </p:nvSpPr>
          <p:spPr>
            <a:xfrm>
              <a:off x="2671920" y="1647720"/>
              <a:ext cx="2646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59" name="Text Box 21"/>
            <p:cNvSpPr/>
            <p:nvPr/>
          </p:nvSpPr>
          <p:spPr>
            <a:xfrm>
              <a:off x="3697200" y="1846440"/>
              <a:ext cx="3391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m</a:t>
              </a:r>
              <a:endParaRPr b="0" lang="en-US" sz="15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60" name="Text Box 22"/>
            <p:cNvSpPr/>
            <p:nvPr/>
          </p:nvSpPr>
          <p:spPr>
            <a:xfrm>
              <a:off x="2584800" y="2552400"/>
              <a:ext cx="41832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m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Times New Roman"/>
                  <a:ea typeface="新細明體"/>
                </a:rPr>
                <a:t>w</a:t>
              </a:r>
              <a:endParaRPr b="0" lang="en-US" sz="15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561" name="Text Box 23"/>
          <p:cNvSpPr/>
          <p:nvPr/>
        </p:nvSpPr>
        <p:spPr>
          <a:xfrm>
            <a:off x="6208920" y="655560"/>
            <a:ext cx="2277720" cy="550800"/>
          </a:xfrm>
          <a:prstGeom prst="rect">
            <a:avLst/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T = m (v</a:t>
            </a:r>
            <a:r>
              <a:rPr b="1" lang="en-US" sz="3000" spc="-1" strike="noStrike" baseline="30000">
                <a:solidFill>
                  <a:srgbClr val="003399"/>
                </a:solidFill>
                <a:latin typeface="Times New Roman"/>
                <a:ea typeface="新細明體"/>
              </a:rPr>
              <a:t>2</a:t>
            </a:r>
            <a:r>
              <a:rPr b="1" lang="en-US" sz="30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 / r)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Text Box 25"/>
          <p:cNvSpPr/>
          <p:nvPr/>
        </p:nvSpPr>
        <p:spPr>
          <a:xfrm>
            <a:off x="489600" y="2887560"/>
            <a:ext cx="633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What is the physical meaning of the formula?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3" name="Text Box 26"/>
          <p:cNvSpPr/>
          <p:nvPr/>
        </p:nvSpPr>
        <p:spPr>
          <a:xfrm>
            <a:off x="308880" y="3360600"/>
            <a:ext cx="859176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What happens if the initial speed v of the bob is forced to move faster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greater T is needed,  the greater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to keep the radius of motion 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 will slide out to attain a greater 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buClr>
                <a:srgbClr val="003399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What happens if there is energy lost due to friction on the plane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 decreases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By T = mv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/ r,  r decreas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buClr>
                <a:srgbClr val="003399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What happen if an additional mass is added to the weight m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Times New Roman"/>
                <a:ea typeface="新細明體"/>
              </a:rPr>
              <a:t>w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 moves dow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r  decreases and T increases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v increas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2"/>
          <p:cNvSpPr/>
          <p:nvPr/>
        </p:nvSpPr>
        <p:spPr>
          <a:xfrm>
            <a:off x="343080" y="168120"/>
            <a:ext cx="342720" cy="39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4799160" y="152280"/>
            <a:ext cx="31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新細明體"/>
              </a:rPr>
              <a:t>Uniform Circular mo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Text Box 4"/>
          <p:cNvSpPr/>
          <p:nvPr/>
        </p:nvSpPr>
        <p:spPr>
          <a:xfrm>
            <a:off x="835920" y="565200"/>
            <a:ext cx="46720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Uniform circular motion in a horizontal plan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567" name="Group 5"/>
          <p:cNvGrpSpPr/>
          <p:nvPr/>
        </p:nvGrpSpPr>
        <p:grpSpPr>
          <a:xfrm>
            <a:off x="343080" y="1081080"/>
            <a:ext cx="4228920" cy="1793520"/>
            <a:chOff x="343080" y="1081080"/>
            <a:chExt cx="4228920" cy="1793520"/>
          </a:xfrm>
        </p:grpSpPr>
        <p:sp>
          <p:nvSpPr>
            <p:cNvPr id="568" name="Line 6"/>
            <p:cNvSpPr/>
            <p:nvPr/>
          </p:nvSpPr>
          <p:spPr>
            <a:xfrm>
              <a:off x="2457360" y="1530000"/>
              <a:ext cx="0" cy="97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69" name="AutoShape 7"/>
            <p:cNvSpPr/>
            <p:nvPr/>
          </p:nvSpPr>
          <p:spPr>
            <a:xfrm>
              <a:off x="343080" y="1118520"/>
              <a:ext cx="4228920" cy="941040"/>
            </a:xfrm>
            <a:prstGeom prst="parallelogram">
              <a:avLst>
                <a:gd name="adj" fmla="val 112347"/>
              </a:avLst>
            </a:prstGeom>
            <a:solidFill>
              <a:srgbClr val="4f81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70" name="Oval 8"/>
            <p:cNvSpPr/>
            <p:nvPr/>
          </p:nvSpPr>
          <p:spPr>
            <a:xfrm>
              <a:off x="1242000" y="1220760"/>
              <a:ext cx="2430360" cy="6624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71" name="Line 9"/>
            <p:cNvSpPr/>
            <p:nvPr/>
          </p:nvSpPr>
          <p:spPr>
            <a:xfrm>
              <a:off x="2457360" y="1530000"/>
              <a:ext cx="972000" cy="22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72" name="Oval 10"/>
            <p:cNvSpPr/>
            <p:nvPr/>
          </p:nvSpPr>
          <p:spPr>
            <a:xfrm>
              <a:off x="3356640" y="1684800"/>
              <a:ext cx="145800" cy="132480"/>
            </a:xfrm>
            <a:prstGeom prst="ellipse">
              <a:avLst/>
            </a:prstGeom>
            <a:solidFill>
              <a:srgbClr val="1f49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73" name="Rectangle 11"/>
            <p:cNvSpPr/>
            <p:nvPr/>
          </p:nvSpPr>
          <p:spPr>
            <a:xfrm>
              <a:off x="2340720" y="2413440"/>
              <a:ext cx="232560" cy="176400"/>
            </a:xfrm>
            <a:prstGeom prst="rect">
              <a:avLst/>
            </a:prstGeom>
            <a:solidFill>
              <a:srgbClr val="1f49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74" name="Line 12"/>
            <p:cNvSpPr/>
            <p:nvPr/>
          </p:nvSpPr>
          <p:spPr>
            <a:xfrm flipV="1">
              <a:off x="3502440" y="1529640"/>
              <a:ext cx="364320" cy="15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75" name="Text Box 13"/>
            <p:cNvSpPr/>
            <p:nvPr/>
          </p:nvSpPr>
          <p:spPr>
            <a:xfrm>
              <a:off x="3839760" y="1355040"/>
              <a:ext cx="2768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v</a:t>
              </a:r>
              <a:endParaRPr b="0" lang="en-US" sz="15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76" name="Line 14"/>
            <p:cNvSpPr/>
            <p:nvPr/>
          </p:nvSpPr>
          <p:spPr>
            <a:xfrm flipV="1">
              <a:off x="3429360" y="1220760"/>
              <a:ext cx="0" cy="52992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77" name="Line 15"/>
            <p:cNvSpPr/>
            <p:nvPr/>
          </p:nvSpPr>
          <p:spPr>
            <a:xfrm>
              <a:off x="3429360" y="1817280"/>
              <a:ext cx="0" cy="50760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78" name="Line 16"/>
            <p:cNvSpPr/>
            <p:nvPr/>
          </p:nvSpPr>
          <p:spPr>
            <a:xfrm flipH="1" flipV="1">
              <a:off x="2700000" y="1529640"/>
              <a:ext cx="656280" cy="15444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79" name="Text Box 17"/>
            <p:cNvSpPr/>
            <p:nvPr/>
          </p:nvSpPr>
          <p:spPr>
            <a:xfrm>
              <a:off x="3460320" y="2326680"/>
              <a:ext cx="4244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mg</a:t>
              </a:r>
              <a:endParaRPr b="0" lang="en-US" sz="15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80" name="Text Box 18"/>
            <p:cNvSpPr/>
            <p:nvPr/>
          </p:nvSpPr>
          <p:spPr>
            <a:xfrm>
              <a:off x="3456360" y="1081080"/>
              <a:ext cx="317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81" name="Text Box 19"/>
            <p:cNvSpPr/>
            <p:nvPr/>
          </p:nvSpPr>
          <p:spPr>
            <a:xfrm>
              <a:off x="2917440" y="1442520"/>
              <a:ext cx="296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82" name="Text Box 20"/>
            <p:cNvSpPr/>
            <p:nvPr/>
          </p:nvSpPr>
          <p:spPr>
            <a:xfrm>
              <a:off x="2671920" y="1647720"/>
              <a:ext cx="2646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83" name="Text Box 21"/>
            <p:cNvSpPr/>
            <p:nvPr/>
          </p:nvSpPr>
          <p:spPr>
            <a:xfrm>
              <a:off x="3697200" y="1846440"/>
              <a:ext cx="3391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m</a:t>
              </a:r>
              <a:endParaRPr b="0" lang="en-US" sz="15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84" name="Text Box 22"/>
            <p:cNvSpPr/>
            <p:nvPr/>
          </p:nvSpPr>
          <p:spPr>
            <a:xfrm>
              <a:off x="2614320" y="2552400"/>
              <a:ext cx="3607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M</a:t>
              </a:r>
              <a:endParaRPr b="0" lang="en-US" sz="15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585" name="Text Box 23"/>
          <p:cNvSpPr/>
          <p:nvPr/>
        </p:nvSpPr>
        <p:spPr>
          <a:xfrm>
            <a:off x="6208920" y="655560"/>
            <a:ext cx="2277720" cy="550800"/>
          </a:xfrm>
          <a:prstGeom prst="rect">
            <a:avLst/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504d"/>
                </a:solidFill>
                <a:latin typeface="Times New Roman"/>
                <a:ea typeface="新細明體"/>
              </a:rPr>
              <a:t>T = m (v</a:t>
            </a:r>
            <a:r>
              <a:rPr b="1" lang="en-US" sz="3000" spc="-1" strike="noStrike" baseline="30000">
                <a:solidFill>
                  <a:srgbClr val="c0504d"/>
                </a:solidFill>
                <a:latin typeface="Times New Roman"/>
                <a:ea typeface="新細明體"/>
              </a:rPr>
              <a:t>2</a:t>
            </a:r>
            <a:r>
              <a:rPr b="1" lang="en-US" sz="3000" spc="-1" strike="noStrike">
                <a:solidFill>
                  <a:srgbClr val="c0504d"/>
                </a:solidFill>
                <a:latin typeface="Times New Roman"/>
                <a:ea typeface="新細明體"/>
              </a:rPr>
              <a:t> / r)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6" name="Text Box 25"/>
          <p:cNvSpPr/>
          <p:nvPr/>
        </p:nvSpPr>
        <p:spPr>
          <a:xfrm>
            <a:off x="489600" y="2887560"/>
            <a:ext cx="633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What is the physical meaning of the formula?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7" name="Text Box 26"/>
          <p:cNvSpPr/>
          <p:nvPr/>
        </p:nvSpPr>
        <p:spPr>
          <a:xfrm>
            <a:off x="459360" y="3809880"/>
            <a:ext cx="7970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Times New Roman"/>
                <a:ea typeface="新細明體"/>
              </a:rPr>
              <a:t>(4)   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What happens if the string suddenly break</a:t>
            </a:r>
            <a:r>
              <a:rPr b="1" lang="en-US" sz="2000" spc="-1" strike="noStrike">
                <a:solidFill>
                  <a:srgbClr val="c0504d"/>
                </a:solidFill>
                <a:latin typeface="Times New Roman"/>
                <a:ea typeface="新細明體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nsion suddenly disappears and there is no more centripetal forc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 more circular motion can be maintained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bob will move with its velocity tangent to the circl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t the instant the string break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Rectangle 2" descr=""/>
          <p:cNvPicPr/>
          <p:nvPr/>
        </p:nvPicPr>
        <p:blipFill>
          <a:blip r:embed="rId1"/>
          <a:stretch/>
        </p:blipFill>
        <p:spPr>
          <a:xfrm>
            <a:off x="195120" y="49320"/>
            <a:ext cx="8498160" cy="87156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228240" y="1295280"/>
            <a:ext cx="4033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When we see an object carrying out circular motion, we know that there must be force acting on the object, directed towards the center of the circle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When you look at the circular motion of a ball attached to a string, the force is provided by the tension in the string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When the force responsible for the circular motion disappears, e.g. by cutting the string, the motion will become linear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90" name="Picture 4" descr=""/>
          <p:cNvPicPr/>
          <p:nvPr/>
        </p:nvPicPr>
        <p:blipFill>
          <a:blip r:embed="rId2"/>
          <a:stretch/>
        </p:blipFill>
        <p:spPr>
          <a:xfrm>
            <a:off x="5270400" y="1600200"/>
            <a:ext cx="2797200" cy="21812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5" descr=""/>
          <p:cNvPicPr/>
          <p:nvPr/>
        </p:nvPicPr>
        <p:blipFill>
          <a:blip r:embed="rId3"/>
          <a:stretch/>
        </p:blipFill>
        <p:spPr>
          <a:xfrm>
            <a:off x="5268960" y="3944880"/>
            <a:ext cx="279720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6T18:52:04Z</dcterms:created>
  <dc:creator> </dc:creator>
  <dc:description/>
  <dc:language>en-US</dc:language>
  <cp:lastModifiedBy> </cp:lastModifiedBy>
  <dcterms:modified xsi:type="dcterms:W3CDTF">2009-07-17T16:32:06Z</dcterms:modified>
  <cp:revision>34</cp:revision>
  <dc:subject/>
  <dc:title>Physics  cdupre  Circular Motion </dc:title>
</cp:coreProperties>
</file>